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B1A-D1DD-42D1-815F-D6B4D65C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78A-3E9C-47E2-899F-E8CFD62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731-ED33-4FAE-864F-2182F660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E11-7C5F-4ACE-9E12-82421762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455-DC32-4994-8EEB-429B014A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092-52D6-45A8-98E4-B64C75A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92A6-6068-4F3B-83E1-1E7D78E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D70-43C2-4389-A874-F3824C0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1C49-EFFF-4CE9-A221-8602A675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73AF-506F-4542-8025-205FF49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E67E-D4A2-46EB-A2A5-6EF6D38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DC9-36CC-4D2B-9E4F-F24A209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68B-A5F6-416E-8019-71289D14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586-507B-4E89-8BF0-64B9FDD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79E-9A67-48DE-A79A-C612112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143F-A558-4F38-968D-3FB6AAB7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9BE-7BAA-4B91-B023-D861F5BB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0DA-2F7A-4741-9ACA-B02FB56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086-8E82-423A-8BB6-E1085B1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168-1030-4BD5-9EA8-34AE6413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940-0B99-4435-81AE-120D464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216-0808-4747-9F96-BC4BD42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6CA-C11C-43A1-8B26-786D56F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F51-0C75-4204-B9FB-8472802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EF9-9412-403B-97D7-695D2E088E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14F-55DD-4522-AF4F-21C2358272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onne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ay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a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ough wind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do shake the darling buds of May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ummer'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lease hath all too short a d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o ho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e eye of heaven shine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is gold complexion d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ry fair from fair sometime decl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imme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y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eternal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summer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shall not fade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Nor lose possession of that fair thou 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ade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eternal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lines to time thou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gr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e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gives life to th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52388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ctav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describes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ways in which the summer’s day is inferior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to the belove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70760" y="4299120"/>
            <a:ext cx="18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estet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scribes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he ways in which the beloved is superior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to the summer’s day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2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n </a:t>
            </a: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in 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Verdana"/>
              </a:rPr>
              <a:t>disgrace</a:t>
            </a: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 with fortun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men's ey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all alon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beweep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my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outcast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st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troubl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deaf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heaven with m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bootles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cri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d look upon myself, and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curs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my f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Verdana"/>
              </a:rPr>
              <a:t>Wishing me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like to one more rich in hop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Featured like him, like him with friends possessed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Desiring this man's art, and that man's scop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With what I most enjoy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Verdana"/>
              </a:rPr>
              <a:t>contented least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t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in these thoughts my self almost despising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ply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I think on the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, and then my stat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ke to the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lark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t break of da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aris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rom sullen earth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ings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hymn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t heaven's gate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thy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sweet love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remembered such 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Verdana"/>
              </a:rPr>
              <a:t>wealt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 bring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then I scorn to change my state with king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175248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44792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diction of the octave implies the speaker’s self-pity and depress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0384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sestet’s diction, in conrast, is joyfu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7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829880"/>
            <a:ext cx="66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time of year thou mayst in me behold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n yellow leaves, or none, or few, do hang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pon those boughs which shake against the cold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are ruined choirs, where late the sweet birds sang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me thou see'st the twilight of such day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after sunset fadeth in the west;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ich by and by black night doth take away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ath's second self, that seals up all in rest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me thou see'st the glowing of such fir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on the ashes of his youth doth li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s the death-bed, whereon it must expire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sum'd with that which it was nourish'd by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is thou perceiv'st, which makes thy love more strong,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o love that well, which thou must leave ere long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81080"/>
            <a:ext cx="14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9051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Year - Fa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200" y="2887560"/>
            <a:ext cx="150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9718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  Day - Twiligh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191120"/>
            <a:ext cx="170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8160" y="40384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14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Quatrai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Fire - Coal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560" y="525780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This” is ll.1-12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7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600200"/>
          <a:ext cx="7620120" cy="1998720"/>
        </p:xfrm>
        <a:graphic>
          <a:graphicData uri="http://schemas.openxmlformats.org/drawingml/2006/table">
            <a:tbl>
              <a:tblPr/>
              <a:tblGrid>
                <a:gridCol w="2743200"/>
                <a:gridCol w="259092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speaker i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art of life live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whole of li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</a:t>
                      </a: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fall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of his li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spring and summ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ye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</a:t>
                      </a:r>
                      <a:r>
                        <a:rPr b="0" i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wilight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of the da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morning and no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da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n the glowing coal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he ashes of you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57200" y="2057400"/>
          <a:ext cx="533520" cy="15238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Q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1744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Yea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510552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8120" y="586728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u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114800"/>
            <a:ext cx="2438280" cy="2438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10080" y="4191120"/>
            <a:ext cx="1981440" cy="2361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ime is rapidly shorten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4952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at time is running out is what the beloved perceiv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2133720"/>
            <a:ext cx="0" cy="1218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3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The Unsonn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ving in truth, and fain in verse my love to sh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at she, dear she, might take some pleasure of my pain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easure might cause her read, reading might make her kn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nowledge might pity win, and pity grace obtain,—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sought fit words to paint the blackest face of woe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udying inventions fine, her wits to entertain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ft turning others' leaves to see if thence would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words came halting forth, wanting invention's stay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thers' feet still seemed but strangers in my wa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us, great with child to speak, and helpless in my throe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iting my truant pen, beating myself for spit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ol, said my muse to me, look in thy heart and write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Sidney,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strophel and Stella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Sonnet 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ving in truth, and fain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in verse my love to show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she, dear she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take some pleasure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of my pa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Pleasure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cause her rea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reading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make her know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Knowledge might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pity w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and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pity </a:t>
            </a:r>
            <a:r>
              <a:rPr b="0" lang="en-US" sz="2800" spc="-1" strike="noStrike" u="sng">
                <a:solidFill>
                  <a:srgbClr val="66ff33"/>
                </a:solidFill>
                <a:uFillTx/>
                <a:latin typeface="Verdana"/>
              </a:rPr>
              <a:t>grace obtai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—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209680"/>
            <a:ext cx="3504960" cy="5335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505320"/>
            <a:ext cx="76320" cy="609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505320"/>
            <a:ext cx="761760" cy="16761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505320"/>
            <a:ext cx="3124080" cy="1752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sought fit wor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paint the blackest face of woe 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Studying inventions fin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her wits to entertain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Oft turning others' leav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see if thence woul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133720"/>
            <a:ext cx="0" cy="6858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133720"/>
            <a:ext cx="152640" cy="16761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words came halt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forth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wanting invention'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ay 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others' fee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still seemed but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strangers in my wa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us,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great with child to speak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and helpless in my throes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iting my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truant p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beating myself for spite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Fool, said my muse to me, look in thy heart and wri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31240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/    U       /       /      U   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ea sure might cause her rea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66ff33"/>
                </a:solidFill>
                <a:latin typeface="Verdana"/>
              </a:rPr>
              <a:t>/   U      /        /     U   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ing might make her kn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ochee:  /  U          Spondee:  /  /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057400"/>
            <a:ext cx="0" cy="7621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05740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373392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657600"/>
            <a:ext cx="0" cy="838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The Unsonn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ving in truth, and fain in verse my love to sh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at she, dear she, might take some pleasure of my pain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easure might cause her read, reading might make her know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nowledge might pity win, and pity grace obtain,—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sought fit words to paint the blackest face of woe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udying inventions fine, her wits to entertain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ft turning others' leaves to see if thence would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 fresh and fruitful showers upon my sun-burned brai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words came halting forth, wanting invention's stay 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vention, nature's child, fled step-dame Study's blows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thers' feet still seemed but strangers in my wa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us, great with child to speak, and helpless in my throes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iting my truant pen, beating myself for spite,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ol, said my muse to me, look in thy heart and write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Sidney,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strophel and Stella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Sonnet 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sonnet 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yric po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isting of fourteen li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in iambic pentam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a definite rhyme sche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 definite thought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lyric poem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eals with emotions, feeling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 consists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ve measures, units, or meters,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amb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12408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iamb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is a metrical foot consisting of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un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llowed by an 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        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/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   gai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  /      U      /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m    mor    tal    iz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U    /      U     /    U    /    U  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day I wrote her name u pon the str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 /     U       /     U      /     U / U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waves and wash ed it a wa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/  U    /    U    /    U   /   U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gain I wrote it with a sec ond h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  U    /      U      /     U     /      U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tide, and made my pains his pr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Edmund Spenser, Amoretti, Sonnet 75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2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               4               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me sche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trarchan (Itali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, cd, c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e, c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kespearean (English, or Elizabeth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ab, cdcd, efef, g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gh winds do shake the darling buds of 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summer's lease hath all too short a d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too hot the eye of heaven sh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his gold complexion d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every fair from fair sometime decl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thy eternal summer shall not f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lose possession of that fair thou 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eternal lines to time thou gr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gives life to th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1676520"/>
            <a:ext cx="76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ught struc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ctave/ sest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octave, eight lines, presents a situation or ide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estet (sextet), six lines, responds, to the situation or idea in the octav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atrain, quatrain, quatrain, coupl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quatrain, four lines, describes and idea or situation which leads to a conclusion or response in the couplet, two li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24:15Z</dcterms:created>
  <dc:creator>Rudolph J Schatz</dc:creator>
  <dc:description/>
  <dc:language>en-US</dc:language>
  <cp:lastModifiedBy>Cobb County School District</cp:lastModifiedBy>
  <dcterms:modified xsi:type="dcterms:W3CDTF">2010-01-27T19:00:09Z</dcterms:modified>
  <cp:revision>73</cp:revision>
  <dc:subject/>
  <dc:title>The Sonnet</dc:title>
</cp:coreProperties>
</file>